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image43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10.png" ContentType="image/png"/>
  <Override PartName="/ppt/media/image27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3BDC-CCC8-41DE-836A-33B3F24339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s: Adorable but Threaten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inel Species at Risk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Pollution and Over-fish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im Fidde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bury HS &amp; PNWBOCES, Yorktown, N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s: Adorable but Threat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inel Species at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Pollution and Over-f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im Fid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bury HS &amp; PNWBOCES, Yorktown, 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Ecology 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Ecology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lluted Food--eat hearty &amp; die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lluted Food--eat hearty &amp; di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ers &amp; Diseases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ers &amp; Diseas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: Part of the Proble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: Part of 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tter Problems &amp; Peri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: 17 to 38 % foraging - 50 to 68 % res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chitka Island, AK: 51 to 58 % time foraging - 32 to 34% res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tter Problems &amp; Per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: 17 to 38 % foraging - 50 to 68 % r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chitka Island, AK: 51 to 58 % time foraging - 32 to 34% r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Fix This: Ways to H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Fix This: Ways to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the-scientist.com/yr2001/feb/research_010219.ht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efenders.org/wildlife/new/marine/otters/images/dowil_sea-otter_even-more-final.htm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iscovery.com/stories/nature/otters/otters.htm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books: Sea Otters Wildlife Education, Ltd. 0-937934-70-4 c.199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bayaq.org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the-scientist.com/yr2001/feb/research_010219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efenders.org/wildlife/new/marine/otters/images/dowil_sea-otter_even-more-fina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iscovery.com/stories/nature/otters/otter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books: Sea Otters Wildlife Education, Ltd. 0-937934-70-4 c.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bayaq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your help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&amp; take care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--the Quiz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your help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&amp; take c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--the Quiz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ats to Sea Otter Popu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ats to Sea Otte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Screen Quiz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Name &amp; describe at least three things making sea otters si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ist &amp; describe two ways sea otters keep war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Describe at least two other adaptations of the sea otter that enable it to live successfully in the ocea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What is the sea otter’s role in the ecology of the kelp forest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Three reasons people should concern themselves with the sea otter. (one hint: define “sentinel species”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ir bubbles in fur, fur density, high metabolism &amp; lots of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dator, control urchins to preserve k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eeking, Now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Screen Quiz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Name &amp; describe at least three things making sea otters s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ist &amp; describe two ways sea otters keep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Describe at least two other adaptations of the sea otter that enable it to live successfully in the oce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What is the sea otter’s role in the ecology of the kelp fore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Three reasons people should concern themselves with the sea otter. (one hint: define “sentinel species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ir bubbles in fur, fur density, high metabolism &amp; lots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dator, control urchins to preserve k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eeking, Now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Anatom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Anat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Biology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Biolog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EF2C-4CCF-4C0C-AA5B-C3EE30E6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586C-89DC-4E40-B159-75DFC4CC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EA9C-748D-420F-BCD2-26EF1196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BB06-84A0-4728-AE0E-39C26966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CED-A0E3-4F4D-AA81-14272B32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FF61-80CF-45C2-816C-79F6A65D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51C7-7A9A-49DD-A0FF-B8BBE3BD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307-FE6D-4E17-A678-DBAAEE15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024-5301-4C93-A4F6-5EF8364F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2EF9-89D1-45B9-903E-87618000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C23F-CF5E-4E66-A00C-4017B026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FF04-3F1C-4048-BC21-C30B448A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9196-CD19-4131-A689-BFD6CA0FE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hyperlink" Target="http://www.the-scientist.com/yr2001/feb/research_010219.html" TargetMode="External"/><Relationship Id="rId3" Type="http://schemas.openxmlformats.org/officeDocument/2006/relationships/hyperlink" Target="http://www.enn.com/news/enn-stories/1999/06/062499/seaotter_3930.asp" TargetMode="External"/><Relationship Id="rId4" Type="http://schemas.openxmlformats.org/officeDocument/2006/relationships/hyperlink" Target="http://www.defenders.org/wildlife/new/marine/otters/images/dowil_sea-otter_even-more-final.html" TargetMode="External"/><Relationship Id="rId5" Type="http://schemas.openxmlformats.org/officeDocument/2006/relationships/hyperlink" Target="http://www.discovery.com/stories/nature/otters/otters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880" y="609480"/>
            <a:ext cx="3810240" cy="3200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Sea Otters: Adorable but Threate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78168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entinel Species at Risk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ue to Pollution and Over-fi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962520" cy="30812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51" name="Text Box 5"/>
          <p:cNvSpPr/>
          <p:nvPr/>
        </p:nvSpPr>
        <p:spPr>
          <a:xfrm>
            <a:off x="1143000" y="5562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 Jim Fidde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nbury HS &amp; PNWBOCES, Yorktown, N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3429000" cy="318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3500280" cy="5334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990720" y="1752480"/>
            <a:ext cx="283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olluted Food--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at hearty &amp; di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3812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200400" cy="23968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200400" cy="2600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609588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tters &amp; Diseases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95680" y="990360"/>
            <a:ext cx="426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657600" cy="31435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4114800" cy="32922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4191120" cy="297972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110" name="Picture 11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2590920" cy="21002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115400" cy="54943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113" name="Text Box 4"/>
          <p:cNvSpPr/>
          <p:nvPr/>
        </p:nvSpPr>
        <p:spPr>
          <a:xfrm>
            <a:off x="2036880" y="59850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609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edators: Part of 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14800" y="1295280"/>
            <a:ext cx="4648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shark-teeth-CBU2"/>
          <p:cNvPicPr/>
          <p:nvPr/>
        </p:nvPicPr>
        <p:blipFill>
          <a:blip r:embed="rId1"/>
          <a:stretch/>
        </p:blipFill>
        <p:spPr>
          <a:xfrm>
            <a:off x="914400" y="1463760"/>
            <a:ext cx="2895480" cy="23162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3124080" cy="20210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ther Otter Problems &amp; Per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1640" y="114264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64788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25751" dir="2700000" blurRad="0" rotWithShape="0">
              <a:srgbClr val="ff6600"/>
            </a:outerShdw>
          </a:effectLst>
        </p:spPr>
      </p:pic>
      <p:sp>
        <p:nvSpPr>
          <p:cNvPr id="123" name="Rectangle 6"/>
          <p:cNvSpPr/>
          <p:nvPr/>
        </p:nvSpPr>
        <p:spPr>
          <a:xfrm>
            <a:off x="4572000" y="2133720"/>
            <a:ext cx="3962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: 17 to 38 % foraging - 50 to 68 % res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chitka Island, AK: 51 to 58 % time foraging - 32 to 34% res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572000" y="441972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80880" y="4800600"/>
            <a:ext cx="381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3429000" cy="24004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pic>
        <p:nvPicPr>
          <p:cNvPr id="127" name="Picture 10" descr=""/>
          <p:cNvPicPr/>
          <p:nvPr/>
        </p:nvPicPr>
        <p:blipFill>
          <a:blip r:embed="rId3"/>
          <a:stretch/>
        </p:blipFill>
        <p:spPr>
          <a:xfrm>
            <a:off x="6400800" y="4983120"/>
            <a:ext cx="2057400" cy="1646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e Can Fix This: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Ways to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1640" y="9140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64824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311472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2514600" cy="1981080"/>
          </a:xfrm>
          <a:prstGeom prst="rect">
            <a:avLst/>
          </a:prstGeom>
          <a:ln w="381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4" name="Picture 8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3276720" cy="1981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5" name="Picture 9" descr=""/>
          <p:cNvPicPr/>
          <p:nvPr/>
        </p:nvPicPr>
        <p:blipFill>
          <a:blip r:embed="rId5"/>
          <a:stretch/>
        </p:blipFill>
        <p:spPr>
          <a:xfrm>
            <a:off x="2819520" y="4572000"/>
            <a:ext cx="2909880" cy="20145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36" name="Picture 10" descr=""/>
          <p:cNvPicPr/>
          <p:nvPr/>
        </p:nvPicPr>
        <p:blipFill>
          <a:blip r:embed="rId6"/>
          <a:stretch/>
        </p:blipFill>
        <p:spPr>
          <a:xfrm>
            <a:off x="2590920" y="2971800"/>
            <a:ext cx="1904760" cy="2143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7" name="Picture 11" descr=""/>
          <p:cNvPicPr/>
          <p:nvPr/>
        </p:nvPicPr>
        <p:blipFill>
          <a:blip r:embed="rId7"/>
          <a:stretch/>
        </p:blipFill>
        <p:spPr>
          <a:xfrm>
            <a:off x="5410080" y="3886200"/>
            <a:ext cx="2467080" cy="1708200"/>
          </a:xfrm>
          <a:prstGeom prst="rect">
            <a:avLst/>
          </a:prstGeom>
          <a:ln w="93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8" name="Picture 12" descr=""/>
          <p:cNvPicPr/>
          <p:nvPr/>
        </p:nvPicPr>
        <p:blipFill>
          <a:blip r:embed="rId8"/>
          <a:stretch/>
        </p:blipFill>
        <p:spPr>
          <a:xfrm>
            <a:off x="5943600" y="3848040"/>
            <a:ext cx="2847960" cy="30099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0" descr=""/>
          <p:cNvPicPr/>
          <p:nvPr/>
        </p:nvPicPr>
        <p:blipFill>
          <a:blip r:embed="rId1">
            <a:lum bright="70000" contrast="-70000"/>
          </a:blip>
          <a:srcRect l="0" t="0" r="17713" b="0"/>
          <a:stretch/>
        </p:blipFill>
        <p:spPr>
          <a:xfrm>
            <a:off x="3124080" y="1568520"/>
            <a:ext cx="6019920" cy="4964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s Threatened”--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nnotated Works C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5800" y="990720"/>
            <a:ext cx="7010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www.the-scientist.com/yr2001/feb/research_010219.ht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14400" y="1371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89680" y="1995480"/>
            <a:ext cx="8011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www.enn.com/news/enn-stories/1999/06/062499/seaotter_3930.a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898560" y="2362320"/>
            <a:ext cx="69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09480" y="2757600"/>
            <a:ext cx="7788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www.defenders.org/wildlife/new/marine/otters/images/dowil_sea-otter_even-more-final.htm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883080" y="3443400"/>
            <a:ext cx="74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5080" y="3747960"/>
            <a:ext cx="6557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http://www.discovery.com/stories/nature/otters/otters.htm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898200" y="4052880"/>
            <a:ext cx="77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650520" y="4357800"/>
            <a:ext cx="74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Zoobooks: Sea Otter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Wildlife Education, Ltd. 0-937934-70-4 c.199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973080" y="473076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680760" y="5029200"/>
            <a:ext cx="2859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ttp://www.mbayaq.or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896760" y="5410080"/>
            <a:ext cx="786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68160" y="5805360"/>
            <a:ext cx="1543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2121120" y="5851440"/>
            <a:ext cx="55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7" descr=""/>
          <p:cNvPicPr/>
          <p:nvPr/>
        </p:nvPicPr>
        <p:blipFill>
          <a:blip r:embed="rId1">
            <a:lum bright="70000" contrast="-70000"/>
          </a:blip>
          <a:srcRect l="0" t="0" r="13252" b="0"/>
          <a:stretch/>
        </p:blipFill>
        <p:spPr>
          <a:xfrm>
            <a:off x="3429000" y="2362320"/>
            <a:ext cx="5486400" cy="4294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s Threatened”--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nnotated Works Cited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5800" y="990720"/>
            <a:ext cx="7010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914400" y="1295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5800" y="1600200"/>
            <a:ext cx="815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898560" y="1981080"/>
            <a:ext cx="69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690120" y="2259000"/>
            <a:ext cx="4041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899640" y="2590920"/>
            <a:ext cx="66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678600" y="289548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899640" y="327672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674640" y="358128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914400" y="38862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e need your help!!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ank you &amp; take ca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otters"/>
          <p:cNvPicPr/>
          <p:nvPr/>
        </p:nvPicPr>
        <p:blipFill>
          <a:blip r:embed="rId1"/>
          <a:stretch/>
        </p:blipFill>
        <p:spPr>
          <a:xfrm>
            <a:off x="914400" y="1981080"/>
            <a:ext cx="7639200" cy="480060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1219320" y="304920"/>
            <a:ext cx="1344600" cy="14475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73" name="Text Box 5"/>
          <p:cNvSpPr/>
          <p:nvPr/>
        </p:nvSpPr>
        <p:spPr>
          <a:xfrm>
            <a:off x="4419720" y="2286000"/>
            <a:ext cx="3581280" cy="581400"/>
          </a:xfrm>
          <a:prstGeom prst="rect">
            <a:avLst/>
          </a:prstGeom>
          <a:solidFill>
            <a:srgbClr val="cc0099"/>
          </a:solidFill>
          <a:ln w="57240">
            <a:solidFill>
              <a:srgbClr val="000000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w--the Quiz!!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reats to Sea Otter Po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2193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30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3047760" cy="2286000"/>
          </a:xfrm>
          <a:prstGeom prst="rect">
            <a:avLst/>
          </a:prstGeom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56" name="Picture 1031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971800" cy="2113200"/>
          </a:xfrm>
          <a:prstGeom prst="rect">
            <a:avLst/>
          </a:prstGeom>
          <a:ln w="1908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57" name="Picture 1033" descr=""/>
          <p:cNvPicPr/>
          <p:nvPr/>
        </p:nvPicPr>
        <p:blipFill>
          <a:blip r:embed="rId3"/>
          <a:stretch/>
        </p:blipFill>
        <p:spPr>
          <a:xfrm>
            <a:off x="304920" y="4876920"/>
            <a:ext cx="3333600" cy="16668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914400" y="457200"/>
            <a:ext cx="49528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 Screen Quiz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6477120" y="304920"/>
            <a:ext cx="2438280" cy="2041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85800" y="1066680"/>
            <a:ext cx="53341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Name &amp; describe at least three things making sea otters sic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List &amp; describe two ways sea otters keep war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Describe at least two other adaptations of the sea otter that enable it to live successfully in the ocea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What is the sea otter’s role in the ecology of the kelp fores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Three reasons people should concern themselves with the sea otter. (one hint: define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tinel spec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172200" y="3048120"/>
            <a:ext cx="2590920" cy="3030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2. Air bubbles in fur, fur density, high metabolism &amp; lots of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4. Predator, control urchins to preserve k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095880" y="2438280"/>
            <a:ext cx="2819520" cy="4597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Peeking, Now!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57600" y="228600"/>
            <a:ext cx="457200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1280" y="6858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30" descr=""/>
          <p:cNvPicPr/>
          <p:nvPr/>
        </p:nvPicPr>
        <p:blipFill>
          <a:blip r:embed="rId1"/>
          <a:stretch/>
        </p:blipFill>
        <p:spPr>
          <a:xfrm>
            <a:off x="380880" y="581040"/>
            <a:ext cx="3124440" cy="26193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pic>
        <p:nvPicPr>
          <p:cNvPr id="62" name="Picture 1033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3162600" cy="23623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240080" cy="472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3895560" cy="5334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624852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Anat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422440" y="1143000"/>
            <a:ext cx="428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49528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9520" y="990360"/>
            <a:ext cx="4953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971800" cy="1729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2790720" cy="23338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2790720" cy="22096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49528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9520" y="990360"/>
            <a:ext cx="4953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29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124440" cy="2076480"/>
          </a:xfrm>
          <a:prstGeom prst="rect">
            <a:avLst/>
          </a:prstGeom>
          <a:ln w="93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8" name="Picture 1030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3048120" cy="2632320"/>
          </a:xfrm>
          <a:prstGeom prst="rect">
            <a:avLst/>
          </a:prstGeom>
          <a:ln w="1908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9" name="Picture 1031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2667240" cy="26287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80" name="Rectangle 1033"/>
          <p:cNvSpPr/>
          <p:nvPr/>
        </p:nvSpPr>
        <p:spPr>
          <a:xfrm>
            <a:off x="3809880" y="3886200"/>
            <a:ext cx="4953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324240" y="304920"/>
            <a:ext cx="545796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2590920" cy="2210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2863800" cy="35049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100320" y="380880"/>
            <a:ext cx="5605560" cy="6153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2739960" cy="33526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191120" y="304920"/>
            <a:ext cx="4647960" cy="318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228600" y="3476520"/>
            <a:ext cx="5486400" cy="2981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6095880" y="3581280"/>
            <a:ext cx="2914920" cy="27082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8T16:51:36Z</dcterms:created>
  <dc:creator>Technology Services</dc:creator>
  <dc:description/>
  <dc:language>en-US</dc:language>
  <cp:lastModifiedBy>LEGION2</cp:lastModifiedBy>
  <dcterms:modified xsi:type="dcterms:W3CDTF">2016-01-13T10:06:24Z</dcterms:modified>
  <cp:revision>69</cp:revision>
  <dc:subject/>
  <dc:title>Sea Otters: Adorable but Threatened</dc:title>
</cp:coreProperties>
</file>